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8D33-2D6B-47D8-B463-22B4EB1E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7C31-F0B2-457E-A8C6-6FBE54EE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467E-BF6E-4BDE-BDBC-D73012C1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1C98-A913-4942-BD13-A73A359D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B2E2-889B-4835-98AE-79B5B2D0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1050-05D8-425C-86DD-54B9D65B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3CCA-F945-43A6-A5DD-C79EC1B2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DFF3-3B3A-45E9-915F-3D30B3C2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4F3-7A47-458C-95A6-450A9897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B4D8-7D90-41D4-9111-1E3642B1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3317-1F80-4AB2-852B-F32BB66C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AEF8-4830-477C-AE39-5756AF14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53E6-C6C3-433F-9841-5EE3F39D7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6-04T03:21:42Z</dcterms:modified>
  <cp:revision>30</cp:revision>
  <dc:subject/>
  <dc:title>Diapositiva 1</dc:title>
</cp:coreProperties>
</file>