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C7F-5E8F-47D0-AAE6-20051739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F1F-A0E0-452F-9632-1043EFEA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593-C80F-458C-9CE1-B70C9DC8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E1D-BAC2-47DB-8F9D-F4517C3E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43D-2D7D-4327-8CD7-B6CD16EA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1DA-E593-4B33-9BCB-8F94F4D0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6A6-4457-469B-9E31-29A2C6CC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88A-E2DD-4DF9-8842-5DE6ACDE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D17-9FD1-48C2-A998-94D99F77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941-31D9-4FD3-8613-0939A7BD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BF7-4CD3-4D48-A2CB-FB0DB1E5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92E-BAC6-43A8-9288-C6BF2D0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FB3A-AD14-445E-9055-C62796349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0920" y="2781360"/>
            <a:ext cx="493236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3357720"/>
            <a:ext cx="316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7T19:20:01Z</dcterms:modified>
  <cp:revision>674</cp:revision>
  <dc:subject/>
  <dc:title>Diapositiva 1</dc:title>
</cp:coreProperties>
</file>