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7D6-5705-45F6-9A05-98389BF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880-FC1E-4581-9D13-43C2DD54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1CD-71B9-4FB3-B5D5-FF3AF12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4B2-19D4-496A-96BD-35550D72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201-B009-40FA-B57D-599A7CED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628-E81D-4E93-B17C-BB07835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75A-ABCF-4FE8-A19E-38E0600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326-7D2B-49E2-87A3-BDA01497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D0B-AF72-4374-BD61-E357F99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840-8841-4476-AF16-8AC88C7C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AC0-0541-429E-AA7A-45DD98E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44D-8F6F-49FF-8549-3FA8ADA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343-CD9E-4F2D-B4EA-CAAE2F1F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60720" y="2707920"/>
            <a:ext cx="42829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PowerPoin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61080" y="3213000"/>
            <a:ext cx="5040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4T15:11:45Z</dcterms:modified>
  <cp:revision>721</cp:revision>
  <dc:subject/>
  <dc:title>Diapositiva 1</dc:title>
</cp:coreProperties>
</file>