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FF2-CCE7-458D-A0A1-9B48CD86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22A-EB56-4486-B243-1502554F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0D2-09A3-4E3D-A414-944BF5E3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BAFA-EA49-406C-A067-049D73C7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0D6-A4F7-4855-A5F1-E54CDEDF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011-FD0F-4FBD-9B0D-40FE36B7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894-EB49-4E77-8EE0-19A9E026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E33-300E-461A-8663-598169B0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647-874F-43E2-9789-880B816D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34E-6279-4A38-8ADA-97D0184E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F16-3126-4E9E-9C75-8DA70AF3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A6F9-8656-4817-AFAC-D473C850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30D0-9F2F-49F2-99D8-C5EC1B6E6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8-31T21:22:32Z</dcterms:modified>
  <cp:revision>138</cp:revision>
  <dc:subject/>
  <dc:title>Diapositiva 1</dc:title>
</cp:coreProperties>
</file>