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83A-BCE9-43AB-902A-2884593C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A80-4BCB-462F-8E83-535B78D9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87C-8066-45E9-AD4F-FF637B21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980-0DC3-47E5-BA07-17E4F8C9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B57-8FE2-4EA7-80A3-EE3FA91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6C6-6D95-446C-B3CD-35CE95C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DEB-800A-4938-A36E-E069B15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AFB-EBC5-4428-8E2A-D9CC774F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6F1-D959-46AE-855C-A7ED6F5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A66-1261-4911-BA97-16CBB89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249-694C-4B7A-BE04-CB26B4D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6F8-5FB2-4001-A2EA-7EFED82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452-2135-44F5-8CE3-2DC29A49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2000" y="5300280"/>
            <a:ext cx="32367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6T21:21:40Z</dcterms:modified>
  <cp:revision>12</cp:revision>
  <dc:subject/>
  <dc:title>TITLE</dc:title>
</cp:coreProperties>
</file>