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2D4-862C-4130-A00E-8462113C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2F2-507D-4F99-A67E-20D9B450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4E1-2BB2-4F30-AA5D-0048090C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B98-AF83-445E-BA84-14AEC560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93C-8805-436B-9679-FFC7984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FB6-D2AC-4DE8-8755-9F080B6C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E30-DA4C-4C6B-9AB7-B1552B0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A0B-83A6-4908-BE5F-BA50556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FE4-762E-4059-BC05-CB2587C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2F5-46EA-4748-9DF2-9B170AE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FD9-F6D6-4F58-A510-DD1BD5E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4EA-F49D-44DA-A2F4-8300F30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2FA8-E2BA-4C4F-93EF-746CCB6A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19:27:12Z</dcterms:modified>
  <cp:revision>650</cp:revision>
  <dc:subject/>
  <dc:title>Diapositiva 1</dc:title>
</cp:coreProperties>
</file>