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C06-E7E2-4AAA-8918-E8F6FF67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75C-FAE9-43F4-B14D-4D9FE1C3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EB2-F8FD-4F43-A345-9CF93605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096-3BE4-45E9-BFA3-B56C24E6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318-35B8-4E23-A926-6DFFB76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495-38D3-4F7D-BACA-C385FCF6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FAD-563C-4739-AD67-A2A3B6F4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52F-0588-44A4-B277-F30A04F1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BF2-6332-4204-B9FA-2E767178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4CE-BC19-437F-B433-5389032F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65D-22B7-4E72-B550-CB7A680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4B8-E25A-4941-A330-80CF4E9E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21DF-E15A-42AB-AF84-2AF473064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22560" y="2707920"/>
            <a:ext cx="4105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3600"/>
            </a:b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8560" y="4438800"/>
            <a:ext cx="3457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hea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0T15:28:11Z</dcterms:modified>
  <cp:revision>845</cp:revision>
  <dc:subject/>
  <dc:title>Diapositiva 1</dc:title>
</cp:coreProperties>
</file>