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CF9-6E57-4C17-A6E7-67906557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520-9C5A-4DE5-A30E-C5795EE7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3C3-D5BB-4A4A-B739-8F05F0C7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C52-3B4D-4B3C-9656-82FD3DE2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2DA-9DEF-4DFA-A86E-D9E960C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B16-47D5-4A2E-9011-1CD198F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B51-7146-4410-BA4C-6799F66D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465-2A19-4AA5-986A-D40D272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D7F-AC0B-4493-9C38-78064594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C49-928B-44C4-9A06-D8B446A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5F0-D16C-44A7-8C36-B50F513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80B-9439-41EE-BC38-72C0D4F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2CA8-26E3-4B9A-925D-CACF71EB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02:28Z</dcterms:created>
  <dc:creator>Mariajose</dc:creator>
  <dc:description/>
  <dc:language>en-US</dc:language>
  <cp:lastModifiedBy>Mariajose</cp:lastModifiedBy>
  <dcterms:modified xsi:type="dcterms:W3CDTF">2010-01-14T17:02:29Z</dcterms:modified>
  <cp:revision>3</cp:revision>
  <dc:subject/>
  <dc:title>Diapositiva 1</dc:title>
</cp:coreProperties>
</file>