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F6B-DA69-468B-92B0-17C307D9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09D-3EE6-407B-A165-C457C32C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35C-82B9-42AA-850F-10B8183B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2AB-9462-4737-BD97-8E368FA3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463-ECBE-4CE6-8E08-5A746CAC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6EF-0C4B-4D9E-9722-37091FCC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88D-C375-4293-8C0E-E3F248B4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9EF-DE3C-453C-A8F0-E035C92E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EB1-BE33-4FBE-847D-C0811DDA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019-C4F4-4C48-9FE9-9442B516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E85-9C84-4BB5-A904-DFD6E987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792-1B52-4A6A-9C9C-D98E1747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5944-54CC-4A4D-9AE9-CD3637CDA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013360"/>
            <a:ext cx="4427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8T15:03:13Z</dcterms:modified>
  <cp:revision>713</cp:revision>
  <dc:subject/>
  <dc:title>Diapositiva 1</dc:title>
</cp:coreProperties>
</file>