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C20-05F1-4607-B2BC-73097B41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60A-58ED-40A0-A7C4-30088A2F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BAD-0630-45DF-8CCD-5ACD2EAD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263-6ADA-4DAC-8A9B-0C8C582B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077-D528-4FB6-831B-EF767CE9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0FE-8E1F-4EAA-98C1-88D5DF64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AAB-BF5D-4FA8-96D9-07D844A7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4AA-6930-41B8-8DEC-7F69372F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C4D-4C15-42CC-B99F-1071782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EAE-C2A9-4743-B2BE-F20AC414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B0A-DDE4-4FF0-9602-54810C9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52E-7D4F-47BB-9234-0441DF6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AD09-0882-4263-B3C5-2A2AF9348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720" y="4684320"/>
            <a:ext cx="4319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1080" y="5516640"/>
            <a:ext cx="35272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6T19:12:26Z</dcterms:modified>
  <cp:revision>586</cp:revision>
  <dc:subject/>
  <dc:title>Diapositiva 1</dc:title>
</cp:coreProperties>
</file>