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09E-9C13-456B-9477-0F897E97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A3D-7D15-4501-B5DD-646E5324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541-1774-4845-AFEB-F8956402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399-2219-4619-8FDE-F6442ACD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CA6-36E7-4145-B68A-155D0A96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B39-4A73-4E11-BACD-1911D8E1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0A4-CBAB-4317-9552-BB05F4DC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A20-EFB9-40F1-8FBF-4C47F69E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E25-6EFE-4294-818D-AC9CB08D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CBD-4444-44C0-B136-DDDA6103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3EF-752A-4710-A3BD-A7175B7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ABD-8FFD-4642-BD3A-71C2DA53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7454-2C89-4486-947C-E6D286739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7-10T18:10:11Z</dcterms:modified>
  <cp:revision>89</cp:revision>
  <dc:subject/>
  <dc:title>TITLE</dc:title>
</cp:coreProperties>
</file>