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571D-69C8-4746-9276-D6B079110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897D-8954-4FB5-839C-31789BE53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7C01-96D1-48B5-A9FB-D87FE1CFE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AE85-92DE-4E74-AD27-C2DE97C0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8E7D-16C5-4121-80C5-3A9CE736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9016-EF10-438C-90B3-051176B73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4472-5EA7-464D-B13F-F56178A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EE75-CD60-4B44-B447-5190D060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61C3-3391-45BA-A993-F561E291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C314-4C21-42BE-9234-63676752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810-9C40-4235-AD41-80E27833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239E-7400-49EF-9181-163D806E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E5D3-049A-4F12-9ABD-11D3B36F4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360" y="1628280"/>
            <a:ext cx="442764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4920" y="2278080"/>
            <a:ext cx="3960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ffffff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5-02T00:05:58Z</dcterms:modified>
  <cp:revision>683</cp:revision>
  <dc:subject/>
  <dc:title>Diapositiva 1</dc:title>
</cp:coreProperties>
</file>