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8BDB-1517-455F-B60D-318AD65A73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97F3-01E7-47F1-BB03-975DEAB17A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1963-1B29-4EDD-A938-DF5563EF6E8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BEB-D113-4B69-87F1-DC22EE1F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E01E-DA77-4682-974A-07AD7083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5CF-5E50-466D-A384-AA32C020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252-330D-48F9-A872-0BD5B68E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6E4C-7266-497D-A9B5-498CE267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0A4-F516-4EED-A459-E33EDF3F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75F-123E-4FD3-BB81-E93F05FB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075-948B-47B4-A0E5-D65C09B8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A88-4DB7-4715-BA75-25584977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548-4E52-4A21-AF9D-95BE9089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90F-47C6-4E85-990C-DD0C7613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091-F562-415F-AF4A-774CD0C3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742F-1379-4A99-858A-09529986D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8-02T02:11:10Z</dcterms:modified>
  <cp:revision>55</cp:revision>
  <dc:subject/>
  <dc:title>TITLE</dc:title>
</cp:coreProperties>
</file>