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BE9-F8B2-47DF-BDA6-ED8C5911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4A09-2797-4E32-8580-240EF5A1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756-8E02-4FDF-8407-25C0640B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930-2DD8-498E-BBDE-F14C7A51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5D2-DCDC-413B-88C8-9F189985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3D7-5929-4FFB-8FE3-E7E47FBE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FC8E-9E25-44C0-8741-FF3DFA82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C67-8F7F-46E2-B154-D75C99BE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B80-F3D5-4F8C-B0A1-E8BE7CFE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D21-C515-4924-BD21-AD9A8F89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D03-189A-4F6B-A6E6-1A1585A2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482-3631-40A3-807D-DD384615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DC44-1068-4E7E-9BBB-FD88C3FC4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7640" y="4508640"/>
            <a:ext cx="442728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537372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8-02T12:32:06Z</dcterms:modified>
  <cp:revision>686</cp:revision>
  <dc:subject/>
  <dc:title>Diapositiva 1</dc:title>
</cp:coreProperties>
</file>