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DBD-464D-49BE-8C68-351B6CD7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B50-4B10-4F49-B66D-4AB87784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75E-D6EA-4962-971D-327EFA62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0B4-5CE3-48CD-815F-89B4E1EF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311-9BA8-444A-BE06-AB67D815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2F9-2ABA-42F2-B14F-3665DE2F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6D8-BCB8-4BF0-8344-876BBEC8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47D-9D64-4FAB-9F99-92744422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2A8-3332-47BC-BFFC-E24B6C7C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76D-00FD-4EDD-8CCD-CF6A4FC5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E00-70C3-4C2F-9ACC-7BD16A80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36E-0D56-4FBF-B387-11C15BD7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C48D-8D0D-4EB4-83C9-A807F5B4C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6T14:03:11Z</dcterms:modified>
  <cp:revision>9</cp:revision>
  <dc:subject/>
  <dc:title>TITLE</dc:title>
</cp:coreProperties>
</file>