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0E7-0855-46F6-A1E3-65BABF64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308-28DC-4D69-8F8A-B45E191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783-1AFB-438B-AC40-F27B7611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09C-0E95-4ACD-89D4-6647897D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601-2F2B-4A8F-8D04-4C39BC3C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9CC-8EF5-442B-B7A7-AFDFA2F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E29-6AB4-4F8E-A33F-D3D91F44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434-C8AB-4A52-93CA-BD4E58F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87F-1DC3-4B78-9992-ECDA0E9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84B-A563-4263-841C-32B3FCB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C4B-5D66-4CFD-91F3-811799EF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659-D573-4EFD-9273-CC346DF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56C-25A9-403D-B80D-1D20C972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472428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4:12:38Z</dcterms:modified>
  <cp:revision>788</cp:revision>
  <dc:subject/>
  <dc:title>Diapositiva 1</dc:title>
</cp:coreProperties>
</file>