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CB7A-DF8D-41F9-8A18-189F7C41C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186C-9210-4634-AE3F-A6041300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6D12-4263-4464-95F2-328FE5296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3C27-E755-4D2D-A145-5DF301FBD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D80-DF8F-475A-94BB-7CC28CE8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FEB-0DC5-4C38-B975-ACA3198A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C688-0122-4F74-A793-FB739C0E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FC94-7F8B-44AE-8D36-FBDFB3CC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AEC-1B59-4B78-B42B-E6A7140D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996-F87F-40C5-ADB5-9EB5F197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3EAB-348F-4298-825A-CE65EF2B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D66-B0D9-450D-A1D5-BF42CCFE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09112-3559-4289-B6E7-6449CDE2E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4360" y="2565000"/>
            <a:ext cx="48956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3600"/>
            </a:br>
            <a:r>
              <a:rPr b="1" lang="es-UY" sz="36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76720" y="4508640"/>
            <a:ext cx="331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Subtitle goes</a:t>
            </a:r>
            <a:br>
              <a:rPr sz="2000"/>
            </a:br>
            <a:r>
              <a:rPr b="1" lang="es-UY" sz="20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10-02T16:49:42Z</dcterms:modified>
  <cp:revision>696</cp:revision>
  <dc:subject/>
  <dc:title>Diapositiva 1</dc:title>
</cp:coreProperties>
</file>