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54D4C-B87B-40B6-A5CC-AAFB10560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A3B70-F41A-4D9D-8995-3979ADA81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0E535-F044-4C74-BE08-2FBA4C6BB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6EEDF-2A70-44A7-BE76-AE8DAF714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C8A7E-FF62-4496-8D43-65EBBED93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F15DA-2C4E-4CBD-971F-BC7514AAC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211CA-AD31-42E0-91D5-5B3F0C50F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24D97-62E0-4CB5-B835-8C5604C55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C3D4F-6C1A-4348-92FA-746955949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0545E-39EA-489D-AAEF-CAB08CDD5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2269A-185A-4775-B637-0EECA03C6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29611-6D53-4D10-A9BC-4F0423ECC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FDE90-B790-41EC-B963-E7DC7F5592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it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16000" y="1557000"/>
            <a:ext cx="6400800" cy="115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6T00:44:23Z</dcterms:created>
  <dc:creator>Mariajose</dc:creator>
  <dc:description/>
  <dc:language>en-US</dc:language>
  <cp:lastModifiedBy>Mariajose</cp:lastModifiedBy>
  <dcterms:modified xsi:type="dcterms:W3CDTF">2008-12-09T01:32:39Z</dcterms:modified>
  <cp:revision>22</cp:revision>
  <dc:subject/>
  <dc:title>Texto</dc:title>
</cp:coreProperties>
</file>