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200-FC61-4DD5-977C-8E349A2C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576-73D4-4CD8-9CB0-6804D403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C47-636E-4786-B32B-72860EA2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95F-270C-4321-827A-37951636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0E1-023D-4E4A-95E2-8FC425FA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C2B-910F-4150-9214-5BC52CAA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DB1-7760-42DD-986D-994FADB9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A510-A74F-4A56-80BB-0D0FCC32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5FE-E600-4061-AA3E-D2562166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44AD-F62C-491E-B614-B8266222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8E5-6E2B-460C-9BC1-3327FF29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AD30-FFFD-497D-854E-91750418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B00F-4DFF-4F18-AA29-96A537502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907920"/>
            <a:ext cx="52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5-03T00:23:14Z</dcterms:modified>
  <cp:revision>64</cp:revision>
  <dc:subject/>
  <dc:title>Texto</dc:title>
</cp:coreProperties>
</file>