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789B-9FC6-423C-9413-44B14D0430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3C81-6321-43CC-AA8F-85CDF5DDB58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7602-E10B-41DC-A664-A7A2C9F88A1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F14-4ACB-44E3-AE6D-DB0B8270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C94-EF83-4BB2-A4A0-EDE8A5EA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E962-20FE-43BA-9ADB-8A882930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AA8-359B-4E8D-8AFB-0BF9401A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3517-632C-43B3-9E9D-84E930C5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C19-F076-4ACD-9907-CE80D725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6A2-24E3-4FBC-8A26-743ECA20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6DE-22B8-4483-BD9E-8BF91785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CE5-AEC0-4202-9887-6322F5A7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D3B7-0D98-43E9-935D-7F4ABB66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A72A-1044-4FF6-900E-9FD5F0E3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891-A892-4D7A-AF6B-6CA0D723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E93D-5705-438C-A839-A61EBF84F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7-26T00:30:09Z</dcterms:modified>
  <cp:revision>45</cp:revision>
  <dc:subject/>
  <dc:title>TITLE</dc:title>
</cp:coreProperties>
</file>