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F25-5B12-449C-8E58-DC2F7AF4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5FB-3696-43AC-B679-F370240A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4D8-C53A-4DE6-AD3F-AEA13267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8C4-D9F8-4CC0-A81F-28716D95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762-2684-491E-A52C-C4363B2A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204-ED3F-47A8-887A-4ED0E7F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351-199C-49E1-8235-74C56D4D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CCF-B047-42F4-AA7B-68A4A2B3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038-B720-44C1-926F-C57F9937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BF1-C199-4DB0-BA79-55B7605A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51F-75E6-4101-870B-110DCFA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9B1-99ED-4077-B14D-1BE9F9B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5CEA-D1A1-40B1-8026-E267BEBE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5516640"/>
            <a:ext cx="540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3399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00:22:05Z</dcterms:modified>
  <cp:revision>712</cp:revision>
  <dc:subject/>
  <dc:title>Diapositiva 1</dc:title>
</cp:coreProperties>
</file>