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02E-89B1-463E-BF9B-86FE97FB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680-E6CB-4F71-BA47-D10E1D8B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572-5B69-42FB-9DD7-325C16E4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1B6-6442-4C1B-9F42-A8F6E3B8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0A7-D47A-496B-8D5A-0F41976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9CA-D0AA-4C24-BE47-DC320EE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E97-AAC6-425D-BD19-2E7F92B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3AB-6791-469A-8992-606FDFFE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517-6054-4719-87A9-15B1B54F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4F5-8C06-49F6-9256-07C809C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633-C139-4915-AB75-0766ACE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DC2-53AA-4BA3-A009-2A30987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531D-E3FF-4EC7-8237-0F2278451E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622760"/>
            <a:ext cx="46796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6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716040" y="533556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660066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9-19T18:34:06Z</dcterms:modified>
  <cp:revision>762</cp:revision>
  <dc:subject/>
  <dc:title>Diapositiva 1</dc:title>
</cp:coreProperties>
</file>