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0B0C-075D-421B-88BD-5544BD82D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CA4E-BABC-404F-AC4D-E3506401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1952C-AED9-44D0-8D4A-A9B7F231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3A90D2-D042-49B6-8B6B-761C71CA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6648B-1BB5-4391-8561-791261C8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1229B2-BAF9-47CE-A8E1-A5D5AB0A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D3131C-A8E7-497C-B561-97A97347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77ADC0-76DD-4213-A586-2B408FC7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B0E6DE-3D85-4AA2-A0D3-EE0BAD2E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34175A-73DD-40C4-A359-851152774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1C2D52-6ADA-4646-9D2C-11EF11992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FF6D81-E203-46A8-BE42-817AC8D57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1F08-43F5-44DE-B5D4-E3E979C8E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D83F63-8A0E-4E7E-B847-DD5DDA99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4FDD40-A0D4-4ADC-AA09-FEB3E2E2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E416C2-8CFE-4FBA-AA13-1A4D6878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2EE71F-BBB0-431A-98DD-334DE6BD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CAF46E-364F-4E2C-B4A3-56FE8DDD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574662-44F3-4CA2-ABCA-344D7D3C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E6FD6-D768-479F-A8F7-7D66BDE1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09487-1E40-4E21-AA9E-4B5F2781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3FA682-F385-4EB4-A78F-CC41167A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152073-644D-4D80-AEFF-2E8F9AB87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0587-1458-4C90-96AE-66918B534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B31636-8F34-4A53-BC54-19F422E35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BB6C41-3D63-4C48-9E04-B26D980E3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26EC0-17FE-4D51-82B0-A9309281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83E5E-4047-4D49-8E41-30467779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40F626-DB7F-4208-824C-62D9F4A0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924F4-8030-44F1-85E8-47B7ED84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4C90C8-BD86-4763-B7CA-33DF57EA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61CD3-7BEE-4431-9466-29BC4381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A9564-2AB4-4FE6-8383-DDEA79B6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E9E30-B51F-4CF2-9693-5CB9C615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9620-9FCE-4E95-91A4-DC0864313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02889A-5CF7-47CB-82BF-95E53391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548FC-9B65-4CB1-99F5-A268F1E2A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777FD5-9304-4AA3-AD81-F2B1565B5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22B712-93B1-4342-A7AA-BFED19FFA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AD30B7-9C37-42A6-8C5E-DF0FF8E1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93BAA8-A60D-4E3B-9C7A-A9CC57CE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9D76A8-3326-4916-8D4B-0318F409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84812F-0360-42C8-99B1-36DE1421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700554-9399-4D7F-85F9-F3A5092F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81D3A4-A065-4CD5-B61C-C93FE1BA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E097-D28D-4B40-8A73-3D2D6F3C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AABE73-2432-420E-8893-9C4E02AE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65271F-53CD-4687-8DA5-DD885FA7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59FB74-3BFA-4D7D-9F43-924C63D6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4E6B99-EE3F-43C4-B341-B757BCC1D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895617-8192-4721-A0B9-2A87948A7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D506-4A0C-4D8E-8495-DB67B08D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2DBC-43A2-44FD-A014-E31557E9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DEB4-07A0-47AC-967C-33AE7B06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0E33-63C9-4F94-A5F8-920FDD17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7D9F-39D1-4BDE-A551-5A9C7F10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8DA3-8F30-4CA1-8942-60EE1FFF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9050-ED38-4DFD-BFA3-1D47C897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01BA-2A60-4B5E-898D-599086E8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783A-E508-4BA2-8638-579C0E3F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E276-CFA3-427B-BC35-3269DCB2E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130C-4A20-414E-B935-603B6E5A2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E3DCF-F9AD-438C-AE66-428BA2981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FAB6D-403E-498C-97B6-E1F83FC2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7EE46-7D0A-43D1-A45D-A7244C63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EF932-DFC9-4E50-A104-79659B12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507E3-6CA6-4392-BD39-987CC942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38DC-00DA-4128-84CD-2E417BD8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1CFA9-3DA5-44C0-BDB0-5CB670EB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71F3C-2181-437B-B1FB-C454AA19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A4B06-3160-4751-A364-BCB129A8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95C4C-0D47-415D-8285-ED560164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2579E-43E2-48FA-BBA4-35637AE2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B3AA3-2AF0-43DD-9EBE-FFF15DBB7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52FC7-9701-41EE-A1D8-B10487900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6F0C9-30AC-4669-979E-8CAC21CF6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73910-B21E-494E-85A7-B577F2EB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BE563-16C8-4DF3-8E3B-85015D72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487E-ADF4-43F1-934A-B8C57ABB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6EE8B-C8CA-4580-A195-BFFA154C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F8806-4AF9-4FB3-AE6B-540DE9B7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600C7-F96B-419C-8C70-E3ECB247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E13F9-5318-481D-8D0D-CAD3DE9E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4FBAF-C4C5-4FA7-8FC4-EE1F95C6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7F047-C3C4-4BCB-8083-A1F991AF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AFC7C-03FC-4AAD-A0AF-6C10C174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FC98C-AF24-41A9-9718-F4B10BA85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0F0B6-1964-448B-BD63-D304F4167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3638F-6DF0-4824-A9BC-4C58F90C9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C3C4-B263-4D9E-BE8D-3A6EC2EA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20D06-50DE-4E1D-970A-2C3B284B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6397B-44A7-45B1-BBD8-D9BA8899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BC737-6316-4C90-B237-6E4809E7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E457D-1330-4136-B8D3-AD7246F8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46CD6-5F9A-4440-8076-9566824F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A3704-2AD4-4CEF-9E88-35A9D8A8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EE941-AE1C-45E3-9CAB-D8B1000E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B56B8-CF88-40AB-BFB3-FB265D1B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9FB62-BD30-461D-A377-1E4D2762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3CCEA-DAAB-4D97-968A-EA728B8B7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4885-FB98-415D-843D-73C8EF65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91F69-FC7A-42CF-9148-55DEC8F46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1F435-452B-471A-A708-AB52E51A7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5A87E-19EB-45A2-A183-C8E45FF3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2F378-19E6-4D62-B578-0F6A8F06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01D1B-6780-469F-B01A-FAE6D791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5F2D3-3427-4430-A9AF-B3E45338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D7E93-B4B2-463E-BC5D-58BA9C86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4164A-23C8-424E-BB52-0D4F3230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00365-C643-44A1-A926-05946A03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A8C8F-1910-49A0-A88D-3F84137D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9FF3-EFFD-4073-A05A-22101E41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4EEF9-5D8B-46AE-B303-6F5159A0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2BF16-9B06-4A0D-9C2F-6B2C63DA9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62B8A-5355-4EB5-B691-32FB1469B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9968F-B410-46F2-B225-884D4AAC3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E9649-C6D6-437A-A4EA-8FD6225B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294C5-8478-4C8B-A211-6291EB96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C74E2-54E6-47FB-A580-0BA9167C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4A7A2-659D-40B7-85E3-DAA15D36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3EA76-6657-4F71-99DA-407A52CD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3B478-3001-4E92-BD65-56B48306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1DAB-4D96-422C-8F3A-A4EFE693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9A236-1573-4993-BDAD-D09B1C57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CE12C-86B3-4B56-9096-564C6F29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8DF12-6345-426E-B402-F6F1B127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58CE1-9017-4DD7-AF9F-0D85F8F6B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47E8C-6690-43E5-93C6-6E51E6738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43B37-6BA4-4A43-84FE-751391437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C5556-8527-4836-AC4B-42D28E41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FC77C-580D-45A2-9311-60A2F52C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45231-F71A-479A-AB41-E18ED366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5E442-1F8E-44FA-AD27-62F685E1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E3AE-C9A7-426F-8971-5BD2AFF8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023EB-BE9B-45F9-A07A-4A1D887B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4B5D5-02C1-4070-A619-BE9B7B9C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30064-CBB5-4A84-A37D-1BF3B868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BE638-A379-4E76-9B50-8FAE9182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7157A-D671-4E6F-B513-AB2D5CBA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F44F6-981C-4114-A713-292C04FA5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6557C-A87B-427A-B441-9D442002A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FE99A-1DCC-4E9A-8A2D-7AD8AC592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3059C2-CFDA-45B8-8597-BB6ADA45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79D81C-DAC6-428A-9EB8-D8F827EB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1E93-FD46-4AA8-B9AF-2EDF9B626D8E}" type="slidenum">
              <a:rPr b="0" lang="es-UY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7050-C1C5-4345-B4C0-CCFAF09ED79F}" type="slidenum">
              <a:rPr b="0" lang="es-UY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ACF6-BAF7-4527-A5D4-33B0630281A8}" type="slidenum">
              <a:rPr b="0" lang="es-UY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EF58-A1E1-49D0-971B-F0F4681BDBB9}" type="slidenum">
              <a:rPr b="0" lang="es-UY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0D43-0889-4525-8502-D65D34EC8747}" type="slidenum">
              <a:rPr b="0" lang="es-UY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5802-A8C6-4FC5-B722-FE829058E273}" type="slidenum">
              <a:rPr b="0" lang="es-UY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E7CB-0426-4762-B376-F9DE5D2FC002}" type="slidenum">
              <a:rPr b="0" lang="es-UY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39D1-030D-4E9C-82C0-D9988FE7C40A}" type="slidenum">
              <a:rPr b="0" lang="es-UY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1916-2EE0-4CC0-B004-8886B25A1FCB}" type="slidenum">
              <a:rPr b="0" lang="es-UY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33FE-0A14-487D-849C-40E560343B8F}" type="slidenum">
              <a:rPr b="0" lang="es-UY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A8B2-CE9F-4D36-A288-CB7BBD5C6A27}" type="slidenum">
              <a:rPr b="0" lang="es-UY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9C24-E809-4F3E-A788-01BDEF0819B9}" type="slidenum">
              <a:rPr b="0" lang="es-UY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6:43:47Z</dcterms:created>
  <dc:creator>Arlo</dc:creator>
  <dc:description/>
  <dc:language>en-US</dc:language>
  <cp:lastModifiedBy>Arlo</cp:lastModifiedBy>
  <dcterms:modified xsi:type="dcterms:W3CDTF">2009-03-03T16:45:58Z</dcterms:modified>
  <cp:revision>1</cp:revision>
  <dc:subject/>
  <dc:title>Title</dc:title>
</cp:coreProperties>
</file>