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99E3-37AE-44C5-808C-CE247E9B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0479-83AD-4C0C-8DE9-0B7DE1C2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3F99-1BB7-4F67-9F6D-33A7B664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FA45-F11B-48D3-84AD-EEF11390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278F-21A8-46F6-9E68-DF24E36B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BCB7-FC18-4EA5-81DB-A79AC12A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1FE0-8555-445E-8E09-03CCE600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A097-6F00-44BE-BAEA-79595B94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FB0E-E994-4BA8-BEE5-4A6D6DBD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1ECC-2E0A-4763-BC25-563794DB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DDCD-90FE-4D05-BB0D-4A82847B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B1AC-5069-47B5-93FA-D8C8EF61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4702-3C16-4547-882B-BDDE9CCECA6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88000" y="4540320"/>
            <a:ext cx="381456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0"/>
          <p:cNvSpPr/>
          <p:nvPr/>
        </p:nvSpPr>
        <p:spPr>
          <a:xfrm>
            <a:off x="4788000" y="5114880"/>
            <a:ext cx="40338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3-05-14T18:52:47Z</dcterms:modified>
  <cp:revision>758</cp:revision>
  <dc:subject/>
  <dc:title>Diapositiva 1</dc:title>
</cp:coreProperties>
</file>