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8D3-2667-483E-8F1B-604E8213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E1A-6941-4DDF-8436-EEF18F71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593-E9A2-4648-89D2-349945FB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8A5-B7AA-46B4-9C9D-66CDF97E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F58-4DCA-4A9F-8464-557CECD1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30B-289F-4E72-8BDC-A0ABF163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2A6-EFA6-4886-A36D-2658741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08B-4D21-46B3-8F06-5AAB8170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111-1F95-467F-831F-8B9CE8FE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0DE-3B51-4182-8433-CBE26DE1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4FF-EB46-4AD8-A207-F84EDF81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D63-6671-4C2E-A79A-EDB1AE87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9698-B656-4111-971F-F1B0752D8A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90756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55736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330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9T14:33:30Z</dcterms:modified>
  <cp:revision>713</cp:revision>
  <dc:subject/>
  <dc:title>Diapositiva 1</dc:title>
</cp:coreProperties>
</file>