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25F-856E-4541-949B-092401B2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537-4B35-4D35-B717-6DBFBDAE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AFB-FEAA-46B1-8CF6-371F3264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661-9BC2-44A3-AB71-FE406314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E8E-B969-42BE-8A87-361FE758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CDB-D272-46AF-9F12-907E132D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24C-FCE4-4C19-BD85-E8331B1A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A1D-005C-4140-B262-F1A3DDE6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F59-41C7-4AE7-A939-98256689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C22-1C1E-4EC7-AEEA-B6047A2C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231-2A7B-4CE6-93FF-58412247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6BC7-4EBC-436B-B7E4-87062D78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D078-31DD-4B5A-849C-B9ED686B006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8360" y="4870440"/>
            <a:ext cx="381456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4067280" y="537372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5-10T14:48:57Z</dcterms:modified>
  <cp:revision>758</cp:revision>
  <dc:subject/>
  <dc:title>Diapositiva 1</dc:title>
</cp:coreProperties>
</file>